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DE4-9AB1-4CD6-B2B7-8537CDF6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11C-8051-4D53-ACE6-7B2615BE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C85-5B76-4337-81C9-43E17ABF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5B6-9B7A-4C75-A549-118CFB9F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3B3-7E28-482A-944F-6A73C0A5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C23-EE75-463B-B2B3-D2713A33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8BC-390F-4FC1-881F-F8278B46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F81-F18E-4A29-A8A1-8B1416F0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C83-81C6-4C6C-9874-B9E80FDC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BB6-82BE-45F1-9545-7B11DA75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400-A0A0-4806-91B7-989F1FE1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C55-2689-4407-8CD2-14FFEC03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9A2C-33BF-4CEB-BAD4-ED1D568E9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0000"/>
            </a:gs>
            <a:gs pos="100000">
              <a:srgbClr val="f9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stellar"/>
                <a:ea typeface="Arial"/>
              </a:rPr>
              <a:t>L</a:t>
            </a:r>
            <a:r>
              <a:rPr b="0" lang="en-US" sz="6000" spc="-1" strike="noStrike">
                <a:solidFill>
                  <a:srgbClr val="ff9933"/>
                </a:solidFill>
                <a:latin typeface="Castellar"/>
                <a:ea typeface="Arial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astellar"/>
                <a:ea typeface="Arial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Castellar"/>
                <a:ea typeface="Arial"/>
              </a:rPr>
              <a:t>C</a:t>
            </a:r>
            <a:r>
              <a:rPr b="0" lang="en-US" sz="6000" spc="-1" strike="noStrike">
                <a:solidFill>
                  <a:srgbClr val="66ff66"/>
                </a:solidFill>
                <a:latin typeface="Castellar"/>
                <a:ea typeface="Arial"/>
              </a:rPr>
              <a:t>a</a:t>
            </a:r>
            <a:r>
              <a:rPr b="0" lang="en-US" sz="6000" spc="-1" strike="noStrike">
                <a:solidFill>
                  <a:srgbClr val="3333ff"/>
                </a:solidFill>
                <a:latin typeface="Castellar"/>
                <a:ea typeface="Arial"/>
              </a:rPr>
              <a:t>s</a:t>
            </a:r>
            <a:r>
              <a:rPr b="0" lang="en-US" sz="6000" spc="-1" strike="noStrike">
                <a:solidFill>
                  <a:srgbClr val="800080"/>
                </a:solidFill>
                <a:latin typeface="Castellar"/>
                <a:ea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Rage Italic"/>
              </a:rPr>
              <a:t>P</a:t>
            </a:r>
            <a:r>
              <a:rPr b="0" lang="en-US" sz="3200" spc="-1" strike="noStrike">
                <a:solidFill>
                  <a:srgbClr val="ff9933"/>
                </a:solidFill>
                <a:latin typeface="Rage Italic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Rage Italic"/>
              </a:rPr>
              <a:t>r </a:t>
            </a:r>
            <a:r>
              <a:rPr b="0" lang="en-US" sz="3200" spc="-1" strike="noStrike">
                <a:solidFill>
                  <a:srgbClr val="66ff66"/>
                </a:solidFill>
                <a:latin typeface="Rage Italic"/>
              </a:rPr>
              <a:t>K</a:t>
            </a:r>
            <a:r>
              <a:rPr b="0" lang="en-US" sz="3200" spc="-1" strike="noStrike">
                <a:solidFill>
                  <a:srgbClr val="3333ff"/>
                </a:solidFill>
                <a:latin typeface="Rage Italic"/>
              </a:rPr>
              <a:t>a</a:t>
            </a:r>
            <a:r>
              <a:rPr b="0" lang="en-US" sz="3200" spc="-1" strike="noStrike">
                <a:solidFill>
                  <a:srgbClr val="800080"/>
                </a:solidFill>
                <a:latin typeface="Rage Italic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Rage Italic"/>
              </a:rPr>
              <a:t>l</a:t>
            </a:r>
            <a:r>
              <a:rPr b="0" lang="en-US" sz="3200" spc="-1" strike="noStrike">
                <a:solidFill>
                  <a:srgbClr val="ff9933"/>
                </a:solidFill>
                <a:latin typeface="Rage Italic"/>
              </a:rPr>
              <a:t>e</a:t>
            </a:r>
            <a:r>
              <a:rPr b="0" lang="en-US" sz="3200" spc="-1" strike="noStrike">
                <a:solidFill>
                  <a:srgbClr val="ffff00"/>
                </a:solidFill>
                <a:latin typeface="Rage Italic"/>
              </a:rPr>
              <a:t>y </a:t>
            </a:r>
            <a:r>
              <a:rPr b="0" lang="en-US" sz="3200" spc="-1" strike="noStrike">
                <a:solidFill>
                  <a:srgbClr val="66ff66"/>
                </a:solidFill>
                <a:latin typeface="Rage Italic"/>
              </a:rPr>
              <a:t>P</a:t>
            </a:r>
            <a:r>
              <a:rPr b="0" lang="en-US" sz="3200" spc="-1" strike="noStrike">
                <a:solidFill>
                  <a:srgbClr val="3333ff"/>
                </a:solidFill>
                <a:latin typeface="Rage Italic"/>
              </a:rPr>
              <a:t>e</a:t>
            </a:r>
            <a:r>
              <a:rPr b="0" lang="en-US" sz="3200" spc="-1" strike="noStrike">
                <a:solidFill>
                  <a:srgbClr val="800080"/>
                </a:solidFill>
                <a:latin typeface="Rage Italic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Rage Italic"/>
              </a:rPr>
              <a:t>k</a:t>
            </a:r>
            <a:r>
              <a:rPr b="0" lang="en-US" sz="3200" spc="-1" strike="noStrike">
                <a:solidFill>
                  <a:srgbClr val="ff9933"/>
                </a:solidFill>
                <a:latin typeface="Rage Italic"/>
              </a:rPr>
              <a:t>h</a:t>
            </a:r>
            <a:r>
              <a:rPr b="0" lang="en-US" sz="3200" spc="-1" strike="noStrike">
                <a:solidFill>
                  <a:srgbClr val="ffff00"/>
                </a:solidFill>
                <a:latin typeface="Rage Italic"/>
              </a:rPr>
              <a:t>a</a:t>
            </a:r>
            <a:r>
              <a:rPr b="0" lang="en-US" sz="3200" spc="-1" strike="noStrike">
                <a:solidFill>
                  <a:srgbClr val="66ff66"/>
                </a:solidFill>
                <a:latin typeface="Rage Italic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7d11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Jar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486400" cy="318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71800" y="5486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age Italic"/>
              </a:rPr>
              <a:t>Es una Jardin bon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848000">
            <a:off x="499680" y="5774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Es asomb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037"/>
            </a:gs>
            <a:gs pos="100000">
              <a:srgbClr val="efb1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0920" y="5257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Es una Casa fabul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074200">
            <a:off x="330480" y="75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CR A Extended"/>
              </a:rPr>
              <a:t>Es Estup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ea47"/>
            </a:gs>
            <a:gs pos="100000">
              <a:srgbClr val="ecf7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496040" cy="299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54100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Es una Cocina magní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470600">
            <a:off x="6831720" y="983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ge Italic"/>
              </a:rPr>
              <a:t>Es Incre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73760" y="1233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P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28800" y="53341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CR A Extended"/>
              </a:rPr>
              <a:t>Es una Patio Soñ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9635600">
            <a:off x="381240" y="609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s luj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486400" cy="3656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52480" y="5715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Es una Cuarto moderna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467800">
            <a:off x="7009560" y="9140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ge Italic"/>
              </a:rPr>
              <a:t>Es cóm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Gar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63868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33720" y="541008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Es una Garaje agrad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 rot="12904800">
            <a:off x="7009560" y="1141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ge Italic"/>
              </a:rPr>
              <a:t>Es b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b6c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B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71500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66880" y="5486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s una grande Ba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9741800">
            <a:off x="457920" y="380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 Titling MT"/>
              </a:rPr>
              <a:t>Es Muy 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43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5410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s una Sala relaj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729800">
            <a:off x="305280" y="7617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Es Mod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09588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0" y="55627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CR A Extended"/>
              </a:rPr>
              <a:t>Es una fantas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182800">
            <a:off x="7009200" y="60912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 prec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2:21:51Z</dcterms:created>
  <dc:creator>peckhamkar</dc:creator>
  <dc:description/>
  <dc:language>en-US</dc:language>
  <cp:lastModifiedBy>peckhamkar</cp:lastModifiedBy>
  <dcterms:modified xsi:type="dcterms:W3CDTF">2013-04-04T15:57:20Z</dcterms:modified>
  <cp:revision>10</cp:revision>
  <dc:subject/>
  <dc:title>La Casa</dc:title>
</cp:coreProperties>
</file>